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F1C7-9BD0-4D99-93A1-83E9E7AB0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D00F-6AB5-497A-A7D2-1EB8D8678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DEBB-D707-4A5F-B705-D78041CD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185-D157-49BD-89FD-82824FF2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5BF7-AADA-4DA9-B14C-6D22BB54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947-EC7F-4BA5-9BDB-8DE6D1A9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8EE0-7E87-4360-A829-AFFB7360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5EF-4962-4A59-B976-3190618A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7DD4-594D-40A3-82D8-B3647E92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F54-EE05-4B56-B021-8771024E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FD5-CD3B-40C9-91E4-9D831578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7EA0-8595-4AF3-B1D3-6A088775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E710-AF81-4F9E-A8E7-DB8BDCA9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459-C0D5-47DD-B7CE-2872E9E9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2ea1"/>
            </a:gs>
            <a:gs pos="100000">
              <a:srgbClr val="1024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C309-CB6F-43FD-80AA-30D0BD071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g50sAqkvWbc" TargetMode="External"/><Relationship Id="rId3" Type="http://schemas.openxmlformats.org/officeDocument/2006/relationships/hyperlink" Target="http://www.youtube.com/watch?v=g50sAqkvWbc" TargetMode="External"/><Relationship Id="rId4" Type="http://schemas.openxmlformats.org/officeDocument/2006/relationships/hyperlink" Target="http://www.youtube.com/watch?v=g50sAqkvWbc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29123" r="0" b="-4380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685800" y="685800"/>
            <a:ext cx="7696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c60a"/>
                </a:solidFill>
                <a:latin typeface="BlairMdITC TT-Medium"/>
              </a:rPr>
              <a:t>17.2 Curr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60a"/>
                </a:solidFill>
                <a:latin typeface="BlairMdITC TT-Medium"/>
              </a:rPr>
              <a:t>pages 593-5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2578320" y="5318280"/>
            <a:ext cx="46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et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’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 get an introduc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ductors vs. Ins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uctors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flow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ulators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do not flow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iconductors conduct under certain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e state: ins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 of specific atoms allows electric charge to be cond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in manufacturing of most electronic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cessary due to change in temp &amp; composition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 alter con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: Silicon and Germanium in computer boards; LED 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5749920" y="1905120"/>
            <a:ext cx="3378240" cy="105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7.3 Circuits: </a:t>
            </a:r>
            <a:r>
              <a:rPr b="0" lang="en-US" sz="4400" spc="-1" strike="noStrike" u="sng">
                <a:solidFill>
                  <a:srgbClr val="ff66ff"/>
                </a:solidFill>
                <a:uFillTx/>
                <a:latin typeface="Arial"/>
              </a:rPr>
              <a:t>Seri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400" spc="-1" strike="noStrike" u="sng">
                <a:solidFill>
                  <a:srgbClr val="66ffff"/>
                </a:solidFill>
                <a:uFillTx/>
                <a:latin typeface="Arial"/>
              </a:rPr>
              <a:t>Parallel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p. 6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ircu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et of electrical components connected such that they provide one or more complete paths for the movement of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or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types of circu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440" y="3805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   </a:t>
            </a:r>
            <a:r>
              <a:rPr b="0" lang="en-US" sz="3600" spc="-1" strike="noStrike" u="sng">
                <a:solidFill>
                  <a:srgbClr val="ff66ff"/>
                </a:solidFill>
                <a:uFillTx/>
                <a:latin typeface="Arial"/>
              </a:rPr>
              <a:t>Series</a:t>
            </a: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66ff"/>
                </a:solidFill>
                <a:latin typeface="Arial"/>
              </a:rPr>
              <a:t>Single path for curr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66ff"/>
                </a:solidFill>
                <a:latin typeface="Arial"/>
              </a:rPr>
              <a:t>Amount of charge that enters a device=amount of charge that exits a dev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66ff"/>
                </a:solidFill>
                <a:latin typeface="Arial"/>
              </a:rPr>
              <a:t>Current in each device is same, resistances may be different depending on the device (light bulb etc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24"/>
              </a:spcBef>
              <a:buClr>
                <a:srgbClr val="ff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66ff"/>
                </a:solidFill>
                <a:latin typeface="Arial"/>
              </a:rPr>
              <a:t>Voltage across each device may be differ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66ff"/>
                </a:solidFill>
                <a:latin typeface="Arial"/>
              </a:rPr>
              <a:t>One element in circuit removed, circuit is op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4"/>
          <p:cNvSpPr/>
          <p:nvPr/>
        </p:nvSpPr>
        <p:spPr>
          <a:xfrm>
            <a:off x="4648320" y="457200"/>
            <a:ext cx="0" cy="609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5181480" y="380880"/>
            <a:ext cx="37339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ffff"/>
                </a:solidFill>
                <a:uFillTx/>
                <a:latin typeface="Arial"/>
              </a:rPr>
              <a:t>Parall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ffff"/>
                </a:solidFill>
                <a:latin typeface="Arial"/>
              </a:rPr>
              <a:t>Multiple paths for curr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ffff"/>
                </a:solidFill>
                <a:latin typeface="Arial"/>
              </a:rPr>
              <a:t>Amount of charge that enters may be different from the amount that exi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ffff"/>
                </a:solidFill>
                <a:latin typeface="Arial"/>
              </a:rPr>
              <a:t>Current in each device does not have to be the same </a:t>
            </a:r>
            <a:r>
              <a:rPr b="0" lang="en-US" sz="21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66ffff"/>
                </a:solidFill>
                <a:latin typeface="Arial"/>
              </a:rPr>
              <a:t> sum of currents in all devices = total curr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ffff"/>
                </a:solidFill>
                <a:latin typeface="Arial"/>
                <a:ea typeface="ＭＳ Ｐゴシック"/>
              </a:rPr>
              <a:t>Voltage across each device is the sa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ffff"/>
                </a:solidFill>
                <a:latin typeface="Arial"/>
              </a:rPr>
              <a:t>One element in circuit is removed, charges would still move through other loop(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1752480" y="5257800"/>
            <a:ext cx="1689120" cy="137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Picture 10" descr=""/>
          <p:cNvPicPr/>
          <p:nvPr/>
        </p:nvPicPr>
        <p:blipFill>
          <a:blip r:embed="rId2"/>
          <a:stretch/>
        </p:blipFill>
        <p:spPr>
          <a:xfrm>
            <a:off x="7010280" y="5181480"/>
            <a:ext cx="1086120" cy="151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907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it mean if you have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otenti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do somet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ll rolli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wnhi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ves fro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avitational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tenti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nergy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w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avitational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tentia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 charges do the same thing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gative charge will move away from another negative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411480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al Potenti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57200" y="1905120"/>
            <a:ext cx="434340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ctrical potential energ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he ability to move an electric charge from one point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4952880" y="266688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lectrical potenti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two like charge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sta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tween the charge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rea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and vice vers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434340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560" y="990720"/>
            <a:ext cx="8839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enti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rgy (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changes depending on the distance b/w the char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ff66"/>
                </a:solidFill>
                <a:uFillTx/>
                <a:latin typeface="Arial"/>
              </a:rPr>
              <a:t>Repul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ce (2 like charges)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 </a:t>
            </a:r>
            <a:r>
              <a:rPr b="0" lang="en-US" sz="2400" spc="-1" strike="noStrike" u="sng">
                <a:solidFill>
                  <a:srgbClr val="ccff66"/>
                </a:solidFill>
                <a:uFillTx/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y get cl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72bfc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2bfc5"/>
                </a:solidFill>
                <a:uFillTx/>
                <a:latin typeface="Arial"/>
              </a:rPr>
              <a:t>Attr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ce (2 opp. charges)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 </a:t>
            </a:r>
            <a:r>
              <a:rPr b="0" lang="en-US" sz="2400" spc="-1" strike="noStrike" u="sng">
                <a:solidFill>
                  <a:srgbClr val="72bfc5"/>
                </a:solidFill>
                <a:uFillTx/>
                <a:latin typeface="Arial"/>
              </a:rPr>
              <a:t>de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y get cl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5480" indent="-425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ulsive &amp; attractive PE are opposite of one anoth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5448600" cy="269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Rectangle 4"/>
          <p:cNvSpPr/>
          <p:nvPr/>
        </p:nvSpPr>
        <p:spPr>
          <a:xfrm>
            <a:off x="228600" y="44956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practical to consid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otential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 what is potential dif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1752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8640" indent="-43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an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electrical PE divided by its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difference = 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Change in electrical 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han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ccurs as a charge moves from one place to another in an electrical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640" indent="-43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difference is measured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ol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38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is reason, potential difference is often called voltage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asically the force through which e- move along a conduc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43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ltage &amp; Batt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840" y="6094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ge (potential difference) across two ends (terminals) of a battery ranges from 1.5 V (small battery) – 12 V (c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ge causes charges to move from side with higher PE to lower 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tteries are </a:t>
            </a:r>
            <a:r>
              <a:rPr b="1" lang="en-US" sz="2400" spc="-1" strike="noStrike" u="sng">
                <a:solidFill>
                  <a:srgbClr val="ff6666"/>
                </a:solidFill>
                <a:uFillTx/>
                <a:latin typeface="Arial"/>
              </a:rPr>
              <a:t>cel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devices that </a:t>
            </a:r>
            <a:r>
              <a:rPr b="0" lang="en-US" sz="2400" spc="-1" strike="noStrike" u="sng">
                <a:solidFill>
                  <a:srgbClr val="ff6666"/>
                </a:solidFill>
                <a:uFillTx/>
                <a:latin typeface="Arial"/>
              </a:rPr>
              <a:t>produ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 electric </a:t>
            </a:r>
            <a:r>
              <a:rPr b="0" lang="en-US" sz="2400" spc="-1" strike="noStrike" u="sng">
                <a:solidFill>
                  <a:srgbClr val="ff6666"/>
                </a:solidFill>
                <a:uFillTx/>
                <a:latin typeface="Arial"/>
              </a:rPr>
              <a:t>curr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US" sz="2400" spc="-1" strike="noStrike" u="sng">
                <a:solidFill>
                  <a:srgbClr val="ff6666"/>
                </a:solidFill>
                <a:uFillTx/>
                <a:latin typeface="Arial"/>
              </a:rPr>
              <a:t>converting chemic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radiant energy </a:t>
            </a:r>
            <a:r>
              <a:rPr b="0" lang="en-US" sz="2400" spc="-1" strike="noStrike" u="sng">
                <a:solidFill>
                  <a:srgbClr val="ff6666"/>
                </a:solidFill>
                <a:uFillTx/>
                <a:latin typeface="Arial"/>
              </a:rPr>
              <a:t>into electric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ctrolyt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lectrically conducting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ctrod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two; each diffe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ive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dry or 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4876920" y="4876920"/>
            <a:ext cx="4038480" cy="180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ctric curr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rate at which charges (e-) move through a con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is measured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per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ampere of current = 1 coulomb of charge moving past a point in 1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 of current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ppos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the direction the e-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&amp; E- Flow 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-25560" y="1752480"/>
            <a:ext cx="916956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7ff06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a7ff06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a7ff0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a7ff06"/>
                </a:solidFill>
                <a:latin typeface="Arial"/>
              </a:rPr>
              <a:t>               </a:t>
            </a:r>
            <a:r>
              <a:rPr b="1" lang="en-US" sz="4000" spc="-1" strike="noStrike">
                <a:solidFill>
                  <a:srgbClr val="a7ff06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/Electrons// will flow towards the opposite charge.  That’s which direction?  Right to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7ff06"/>
                </a:solidFill>
                <a:latin typeface="Wingdings"/>
                <a:ea typeface="Wingdings"/>
              </a:rPr>
              <a:t></a:t>
            </a:r>
            <a:r>
              <a:rPr b="1" lang="en-US" sz="2800" spc="-1" strike="noStrike">
                <a:solidFill>
                  <a:srgbClr val="a7ff0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7ff06"/>
                </a:solidFill>
                <a:latin typeface="Wingdings"/>
                <a:ea typeface="Wingdings"/>
              </a:rPr>
              <a:t></a:t>
            </a:r>
            <a:r>
              <a:rPr b="1" lang="en-US" sz="2800" spc="-1" strike="noStrike">
                <a:solidFill>
                  <a:srgbClr val="a7ff0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7ff06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\\current\\ is the opposite direction.  Left to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7ff06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a7ff0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7ff06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a7ff0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7ff06"/>
                </a:solidFill>
                <a:latin typeface="Arial"/>
              </a:rPr>
              <a:t>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\\current\\ does flow from positive to nega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//electrons// do get pulled towards the positive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we define electric current to be the opposite direction of electron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al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bulbs use different amounts of power b/c different currents i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ce in currents is due to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ff30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005"/>
                </a:solidFill>
                <a:uFillTx/>
                <a:latin typeface="Arial"/>
              </a:rPr>
              <a:t>Resist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aused by internal </a:t>
            </a:r>
            <a:r>
              <a:rPr b="0" lang="en-US" sz="3200" spc="-1" strike="noStrike">
                <a:solidFill>
                  <a:srgbClr val="ff3005"/>
                </a:solidFill>
                <a:latin typeface="Arial"/>
              </a:rPr>
              <a:t>fri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005"/>
                </a:solidFill>
                <a:latin typeface="Arial"/>
              </a:rPr>
              <a:t>slow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movement of </a:t>
            </a:r>
            <a:r>
              <a:rPr b="0" lang="en-US" sz="3200" spc="-1" strike="noStrike">
                <a:solidFill>
                  <a:srgbClr val="ff3005"/>
                </a:solidFill>
                <a:latin typeface="Arial"/>
              </a:rPr>
              <a:t>char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a condu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stance = 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vol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4572000" y="54100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 =  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5638680" y="5181480"/>
            <a:ext cx="35053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R= resistance (ohm 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Lucida Grande"/>
              </a:rPr>
              <a:t>Ω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Lucida Grande"/>
              </a:rPr>
              <a:t>V= voltage (volts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Lucida Grande"/>
              </a:rPr>
              <a:t>I= current (ampere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4:26:12Z</dcterms:created>
  <dc:creator>Sarah Sewatsky User</dc:creator>
  <dc:description/>
  <dc:language>en-US</dc:language>
  <cp:lastModifiedBy>Jillian Boisse</cp:lastModifiedBy>
  <cp:lastPrinted>2013-11-05T19:04:26Z</cp:lastPrinted>
  <dcterms:modified xsi:type="dcterms:W3CDTF">2013-11-05T19:18:16Z</dcterms:modified>
  <cp:revision>44</cp:revision>
  <dc:subject/>
  <dc:title>PowerPoint Presentation</dc:title>
</cp:coreProperties>
</file>